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274-13C1-4252-B054-BF287C45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3D7-E15B-404A-B888-D77A563E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EE8-F55A-469C-9851-96A4CE4F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A95-C60D-46E7-9901-7A2BBD41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F80-DF5C-4A13-B097-AB7345AC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0A9-FD5E-49D1-BAF0-FE913324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B005-127F-420E-9ADF-64E7E1AA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94A-E302-4A02-9DB1-6FD68CC0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8ACB-48B0-4C2D-BEBE-8C84D6F2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FED-7430-43C3-B102-9F0B27D8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DBE-BB8D-4681-9B83-72454FF9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41B-E904-4001-A780-4BCD93912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D35D-F1BF-46C0-ADBD-6D7F9D231C7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78D9-98AC-4C8A-8207-25E9E3D2B8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ommunications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4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ypical Performance Comparison for Crystal Oscillator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11" descr="tab04_01.jpg"/>
          <p:cNvPicPr/>
          <p:nvPr/>
        </p:nvPicPr>
        <p:blipFill>
          <a:blip r:embed="rId1"/>
          <a:stretch/>
        </p:blipFill>
        <p:spPr>
          <a:xfrm>
            <a:off x="228600" y="1436760"/>
            <a:ext cx="8686800" cy="38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c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tors and capacitors exhibit react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fests as opposition to current flow in ac circuits; measured in oh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quantity expressed in ohms ultimately defined as ratio of voltage to curr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c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ly proportional to both inductance and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citive reac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rsely proportional to both frequency and capacit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actical Inductors and Capaci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energy in surrounding magnetic field; lose energy in their winding resistanc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ci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energy in electric field between plates; lose energy from leakage between pl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n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tive and capacitive reactances are eq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Bandpass Fil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’s quality factor provides a measure of how selective (narrow) its passband is compared to its center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llel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ircu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called tank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is stored in each reactive element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first in one and then released to the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s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ant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il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acitive and inductive reactances made equal to constant value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derived fil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ned circuit in filter to provide nearly infinite attenuation at a specific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s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ll-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e of attenuation is steepness of filter’s response cu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-Frequency Eff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wire exhibits small amount of inductance; longer the wire, greater the induct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ize all lead lengths in RF circui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ystal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ed to exhibit very high values of Q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performance possible when two or more crystals combined in a single filter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pl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sses of Ampl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s one or more active devices to increase voltage or current amplitude of electrical signal applied to its inpu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by amount of time during each input cycle that active device within circuit conducts curr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ramic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piezoelectric effect as crystals do; constructed from lead zirconate-titan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cost, rugged, smaller size than crystal fil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chanical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chanically resonant; receives electrical energy, converts it to mechanical vibration, then converts mechanical energy back into electrical energy as the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W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 variant of mechanical filter; surface-acoustic-wave (SAW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n high-quality, analog color televi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y on surface effects in piezoelectric materi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xing and Multiplication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 is a form of mix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x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or more signals applied to nonlinear de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xing and Multiplication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/phas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ication of carrier and intelligence signa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anced Modu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ress the carrier, leaving only two sideb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xing and Multiplication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C Balanced Modu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ior component-matching characteristics obtainable when devices fabricated on same silicon chi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 Dete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 method of detecting SSB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-Locked Loop (PL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feedback contro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actor Di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s as variable capacitor in oscillator tank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L Capture and Loc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L in lock whenever VCO frequency matched to the refer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 range contains frequencies over which PLL circuit can initially acquire lo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 Synthe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L frequency synthesizer allows a range of frequencies to be generated from stable, single-frequency reference (crystal-controlled oscillato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grammable Divi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 programmable dividers are decades or divide-by-16 coun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ous logic fami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MOS and TT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pl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sses of Ampl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ion angle defines portion of input signal during which active device is turned 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-Modulus Divi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one mode synthesizer divides by N and in the other mode, by N +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Digital Synthesis (DD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on repeatability and drift problems of analog units that require select-by-test com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ed maximum output frequency and greater complexity/cost conside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pl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sses of Ampl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linear form; active device conducts current over full 360° of input cycle; ineffici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duction angle of 180°; active device conducts for exactly half of each input cycle; nonlinear, but efficiency improved over class 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pl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sses of Ampl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e brief, high-energy pulses at output of active device; efficiencies in excess of 75%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witching amplifiers; rely in part on principle of pulse-width mod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scill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cil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es waveform by converting direct-current energy to alternating current; first stages of transmit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ice of oscillator type based 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tput frequency requir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 stability requir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ge of frequency variability, if need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able waveform distor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 output requir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scill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C Oscil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llel-resonant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ally feedback amplifiers; feedback serving to increase or sustain self-generated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scill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C Oscil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-back signal in phase with input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eria for oscil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khausen criter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s of oscill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tley, Colpitts, Clap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scill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ystal Oscil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piezoelectric crystal as inductive element of LC circui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ystal (usually quartz) has resonant frequency of its ow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mum performance obtained when coupled with external capacit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4-1: Typical Performance Comparison for Crystal Oscill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1:54Z</dcterms:modified>
  <cp:revision>5</cp:revision>
  <dc:subject/>
  <dc:title>Slide 1</dc:title>
</cp:coreProperties>
</file>